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09F-9E3C-4727-9C3F-35860E43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6F2-2BEA-462E-B00E-C23733B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1F0-6B8D-49ED-9559-A5C4B17C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872-9F04-4ACD-8F44-DBF4240C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1FBB-698B-4BA2-AA07-9AC35235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149A-1E00-4B05-AE45-7B08C511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ECAD-D714-4DB8-9BD9-175E131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AD9E-272F-43E6-91AC-3448C5E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B41-B7B2-418E-8E5E-35633E3F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A54E-72FB-4FD6-AC74-1DC52F65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967C-7B6C-4AC2-AD0B-3143184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E0B-B901-44A2-AC4F-19381B9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318-B73D-4766-AB3E-5AD63F5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DB10-1258-450D-9DAA-239F36E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B8E2-7C0B-4EE8-957C-833C85E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17DC-F831-4761-AA1D-E36B10C5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9E08-529C-4AC8-AC1B-465C0520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D81-AB92-4A04-9EA4-3C795D9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9A3-B17C-458E-B9A8-AC945E81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D52-3DD1-4175-802B-C109900C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D74-D39F-4C14-8F1E-A62B635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EB8-C079-4E19-9F12-5C924CD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645-A4B5-46A7-ACA8-A5CE157D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91A-294D-438C-8798-F1B7090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7AA-903D-4524-AAE0-6D4D957A4E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B91F-5B7A-4A57-B5C0-032E22639C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69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5143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98840" y="798480"/>
            <a:ext cx="805752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IÓN NOMINAL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“TERMINACIÓN” (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DESIN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5280" y="2922480"/>
            <a:ext cx="43164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3429000"/>
            <a:ext cx="431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2565360"/>
            <a:ext cx="259236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5080" y="3138480"/>
            <a:ext cx="187164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SO  Y  N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3645000"/>
            <a:ext cx="0" cy="1411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33760" y="380844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31960" y="42195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31960" y="46515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S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31960" y="508464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551664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5240" y="381312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US./S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3440" y="422424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US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3440" y="465588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.-AB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3440" y="508932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.-AB.-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3440" y="552132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N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9960" y="401652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9960" y="444960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960" y="488160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9960" y="531324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9960" y="567360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573360"/>
            <a:ext cx="0" cy="28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8160" y="6491160"/>
            <a:ext cx="79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 Estas desinencias son válidas para LO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ÉNEROS MASC. Y FEMENIN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387972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431172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433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517680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60880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2852640"/>
            <a:ext cx="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71280" y="2852640"/>
            <a:ext cx="215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645000"/>
            <a:ext cx="2160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31960" y="595620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440" y="596088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N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9960" y="611352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3068640"/>
            <a:ext cx="2089080" cy="576360"/>
          </a:xfrm>
          <a:prstGeom prst="downArrowCallout">
            <a:avLst>
              <a:gd name="adj1" fmla="val 90623"/>
              <a:gd name="adj2" fmla="val 90615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0536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400536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1640" y="4255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46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005360"/>
            <a:ext cx="792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16720" y="4437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4869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57340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4005360"/>
            <a:ext cx="792360" cy="71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4005360"/>
            <a:ext cx="792360" cy="165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46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763640" y="4005000"/>
            <a:ext cx="72072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763640" y="4365720"/>
            <a:ext cx="792360" cy="71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4437000"/>
            <a:ext cx="792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4437000"/>
            <a:ext cx="79236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51640" y="4255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46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3440" y="4616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5164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763640" y="4005000"/>
            <a:ext cx="720720" cy="136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365720"/>
            <a:ext cx="72072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35280" y="5300280"/>
            <a:ext cx="72072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5373720"/>
            <a:ext cx="79236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3440" y="4255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53440" y="587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3440" y="5013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53440" y="3789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501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720" y="530064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63640" y="3933360"/>
            <a:ext cx="576360" cy="180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763640" y="4365360"/>
            <a:ext cx="647640" cy="136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763640" y="5157360"/>
            <a:ext cx="72072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763640" y="5660640"/>
            <a:ext cx="79236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3440" y="4255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5164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53440" y="3789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501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763640" y="4076640"/>
            <a:ext cx="72072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763640" y="4365360"/>
            <a:ext cx="72072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4797360"/>
            <a:ext cx="792360" cy="4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4797360"/>
            <a:ext cx="79236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3440" y="3789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24720" y="4255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587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501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53440" y="4292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6093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44000" y="105264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3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51" stAng="-5400000" swAng="5400000"/>
                <a:lnTo>
                  <a:pt x="21600" y="11909"/>
                </a:lnTo>
                <a:arcTo wR="21600" hR="7551" stAng="0" swAng="2680476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69"/>
                </a:lnTo>
                <a:arcTo wR="21600" hR="7551" stAng="2680476" swAng="-2319598"/>
                <a:lnTo>
                  <a:pt x="20681" y="9730"/>
                </a:lnTo>
                <a:arcTo wR="21600" hR="7551" stAng="-360878" swAng="-5039122"/>
                <a:close/>
              </a:path>
              <a:path fill="darkenLess" w="21600" h="21600">
                <a:moveTo>
                  <a:pt x="0" y="0"/>
                </a:moveTo>
                <a:arcTo wR="21600" hR="7551" stAng="-5400000" swAng="5400000"/>
                <a:lnTo>
                  <a:pt x="21600" y="11909"/>
                </a:lnTo>
                <a:arcTo wR="21600" hR="7551" stAng="0" swAng="-360878"/>
                <a:lnTo>
                  <a:pt x="20681" y="9730"/>
                </a:lnTo>
                <a:arcTo wR="21600" hR="7551" stAng="-360878" swAng="-5039122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1413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9074"/>
                </a:solidFill>
                <a:latin typeface="Verdana"/>
              </a:rPr>
              <a:t>EL “CASO” Y EL “NÚMER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8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0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3" dur="1" fill="hold"/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1125360"/>
            <a:ext cx="720720" cy="503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0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"/>
                            </p:stCondLst>
                            <p:childTnLst>
                              <p:par>
                                <p:cTn id="17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eclina un sustantivo? (paso 1º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2920" y="4292640"/>
            <a:ext cx="7772400" cy="1977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321300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0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6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1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Una vez determinada la declinación,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xtraemos la raíz (lexema) del sustantivo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, que es donde vamos a añadir las desinencias casuale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(morfemas)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eclina un sustantivo? (paso 2º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7280" y="350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La raíz del sustantivo es lo que nos queda al quitarle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la terminación al genitivo</a:t>
            </a: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4508640"/>
            <a:ext cx="7772400" cy="17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Sustantivo: </a:t>
            </a:r>
            <a:r>
              <a:rPr b="1" lang="es-ES_tradnl" sz="2800" spc="-1" strike="noStrike">
                <a:solidFill>
                  <a:srgbClr val="ff3300"/>
                </a:solidFill>
                <a:latin typeface="AGaramond"/>
              </a:rPr>
              <a:t>dominus, domi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Declinación: segunda (genitivo </a:t>
            </a:r>
            <a:r>
              <a:rPr b="1" lang="es-ES_tradnl" sz="2800" spc="-1" strike="noStrike">
                <a:solidFill>
                  <a:srgbClr val="006600"/>
                </a:solidFill>
                <a:latin typeface="AGaramond"/>
              </a:rPr>
              <a:t>–i</a:t>
            </a: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Raíz: </a:t>
            </a:r>
            <a:r>
              <a:rPr b="1" lang="es-ES_tradnl" sz="2800" spc="-1" strike="noStrike">
                <a:solidFill>
                  <a:srgbClr val="006600"/>
                </a:solidFill>
                <a:latin typeface="AGaramond"/>
              </a:rPr>
              <a:t>domin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0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9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0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eclina un sustantivo? (paso 3º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8305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Ahora sólo tenemos que ir añadiendo a la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raíz (lexema)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la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rminaciones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de cada uno de los casos, en función de la declinación a la que el sustantivo pertene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3573360"/>
            <a:ext cx="4320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00720" y="3573000"/>
            <a:ext cx="360360" cy="180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732720" y="3429000"/>
          <a:ext cx="2184120" cy="3095640"/>
        </p:xfrm>
        <a:graphic>
          <a:graphicData uri="http://schemas.openxmlformats.org/drawingml/2006/table">
            <a:tbl>
              <a:tblPr/>
              <a:tblGrid>
                <a:gridCol w="647640"/>
                <a:gridCol w="936720"/>
                <a:gridCol w="599760"/>
              </a:tblGrid>
              <a:tr h="441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RMIN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58920" y="3881520"/>
          <a:ext cx="5327640" cy="264312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1187280" y="328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Garamond"/>
              </a:rPr>
              <a:t>AULA, AUL</a:t>
            </a:r>
            <a:r>
              <a:rPr b="1" lang="es-ES_tradnl" sz="2800" spc="-1" strike="noStrike">
                <a:solidFill>
                  <a:srgbClr val="ff3300"/>
                </a:solidFill>
                <a:latin typeface="AGaramond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3309840"/>
            <a:ext cx="503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Garamond"/>
              </a:rPr>
              <a:t>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3355920"/>
            <a:ext cx="1657080" cy="433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ª DECL.(f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56360" y="357336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732720" y="3429000"/>
          <a:ext cx="2184120" cy="3095640"/>
        </p:xfrm>
        <a:graphic>
          <a:graphicData uri="http://schemas.openxmlformats.org/drawingml/2006/table">
            <a:tbl>
              <a:tblPr/>
              <a:tblGrid>
                <a:gridCol w="647640"/>
                <a:gridCol w="936720"/>
                <a:gridCol w="599760"/>
              </a:tblGrid>
              <a:tr h="441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RMIN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258920" y="3881520"/>
          <a:ext cx="5327640" cy="264312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fill="hold">
                      <p:stCondLst>
                        <p:cond delay="0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91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0.4"/>
                                  </p:iterate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6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4384"/>
                            </p:stCondLst>
                            <p:childTnLst>
                              <p:par>
                                <p:cTn id="19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33" dur="123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934" dur="123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9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936" dur="123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9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4384"/>
                            </p:stCondLst>
                            <p:childTnLst>
                              <p:par>
                                <p:cTn id="1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lumno</cp:lastModifiedBy>
  <dcterms:modified xsi:type="dcterms:W3CDTF">2007-02-19T11:30:26Z</dcterms:modified>
  <cp:revision>38</cp:revision>
  <dc:subject/>
  <dc:title>MORFOSINTAXIS</dc:title>
</cp:coreProperties>
</file>